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3D1-E7B2-4149-ABAF-5C1CF289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4422-81C8-4EB4-A73E-2975E653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0C7-FC80-4E90-A77B-E3DDC35C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022-F779-4E5E-8E68-6BF427FB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9722-D93E-43AA-AF95-8F5B2DFC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C633-2CF2-43B4-A0F7-EE4B6225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FFE8-DE01-4F0C-8ADF-AF0B9896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54A5-B5C9-4332-AD87-94D1F254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069D-0CA0-474B-AA22-AB8D1454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18AF-4632-4B26-80A1-E78F1DF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3E24-FEC8-4968-B596-1B0A72C5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B01-8B93-4814-BBB7-672235BD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5275-07F5-4FEA-BB54-71C00144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9CF5-B56D-4BB6-AF80-752DAB82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BA14-DAF9-4EDB-8E95-BBE1FB30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1020-7700-4437-A900-53AD2A0E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652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2680" y="330984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652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2680" y="4446720"/>
            <a:ext cx="228168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BBCE-EAA5-40C3-AB21-6C1E66AE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56E-60B5-4766-9BA9-87B9CF98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723-B5D5-4138-A1CF-5AD1F93D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B1D-D7C6-44D6-9A02-6E747D3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9DA-B5AC-4BD4-9803-7B069165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190-563C-433C-89B3-4F58D521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21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1680" y="444672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71C-D295-4576-A927-562A8DC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1680" y="3309840"/>
            <a:ext cx="34581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446720"/>
            <a:ext cx="7086600" cy="103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0F2-A8F2-4F68-A56F-481DD06F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E693-1FCA-4A96-AF3F-4BEE76B59831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3096-BAB9-4E42-909D-B8BAE9426C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57200"/>
            <a:ext cx="83059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LYU0001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Wireless-based Mobile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Arial"/>
                <a:ea typeface="新細明體"/>
              </a:rPr>
              <a:t>E-Commerce on the Web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3309840"/>
            <a:ext cx="7086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upervisor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of. Michael R. L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epared By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at Hong Fai, 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Yan Wai Keung, Har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5975280"/>
            <a:ext cx="42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Year Project Presentation, Spring 2001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hinese University of Hong Ko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omputer Science and Engineering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5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1): Instant messa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“Push” is not support in WAP 1.1, automatic refresh interrupts normal naviga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Check message every page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38098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6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Read Response for two different brows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ccept the final price and make transa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09480" y="3587760"/>
            <a:ext cx="3962520" cy="2584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48320" y="3587760"/>
            <a:ext cx="39621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7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eck history of trans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asswor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hange personal inform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history" descr=""/>
          <p:cNvPicPr/>
          <p:nvPr/>
        </p:nvPicPr>
        <p:blipFill>
          <a:blip r:embed="rId5"/>
          <a:stretch/>
        </p:blipFill>
        <p:spPr>
          <a:xfrm>
            <a:off x="1143000" y="37339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changeinfo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21" name="wapchpwd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386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8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User interaction (2): Voice call over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copy down phone number, terminate WAP connection and then di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WTAI to make phone call directl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886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low Desig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34960" y="1371600"/>
            <a:ext cx="6718320" cy="5181480"/>
            <a:chOff x="1434960" y="1371600"/>
            <a:chExt cx="6718320" cy="5181480"/>
          </a:xfrm>
        </p:grpSpPr>
        <p:sp>
          <p:nvSpPr>
            <p:cNvPr id="127" name=""/>
            <p:cNvSpPr/>
            <p:nvPr/>
          </p:nvSpPr>
          <p:spPr>
            <a:xfrm>
              <a:off x="1434960" y="2088720"/>
              <a:ext cx="0" cy="43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2560" y="2487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status of sell / buy item(s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0640" y="1371600"/>
              <a:ext cx="131076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Main p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5840" y="161064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5720" y="1770120"/>
              <a:ext cx="44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25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ember’s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256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 transaction hist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2560" y="4560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View/edit personal information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2560" y="503856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Change password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648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Browse sell / buy categor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56480" y="248760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Item description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6480" y="296568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Make response to product own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86960" y="192960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 Register as new user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560" y="34441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simple message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62560" y="5357520"/>
              <a:ext cx="1966320" cy="39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Post product to sell / buy category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62560" y="6314040"/>
              <a:ext cx="1966320" cy="239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Logout (#)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62560" y="3922560"/>
              <a:ext cx="1966320" cy="55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ad product response from interested party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34960" y="6393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496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3496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4960" y="5517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34960" y="51980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960" y="4719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4960" y="320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4960" y="272664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57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584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3496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56480" y="344412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o the sender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28880" y="3683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56480" y="3922560"/>
              <a:ext cx="1966320" cy="5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Reply the response or accept to make transact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28880" y="41616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2560" y="5835600"/>
              <a:ext cx="196632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Send message to registered users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4960" y="599508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70120" y="1770120"/>
              <a:ext cx="0" cy="1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208872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5840" y="2328120"/>
              <a:ext cx="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5840" y="272664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960" y="2487600"/>
              <a:ext cx="1966320" cy="1674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All facilities are available for web version after user login to the system except: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*: Facilities available for users haven’t logi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(#): Not available for WAP version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Architectur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676520"/>
            <a:ext cx="5866920" cy="4267080"/>
            <a:chOff x="1752480" y="1676520"/>
            <a:chExt cx="5866920" cy="4267080"/>
          </a:xfrm>
        </p:grpSpPr>
        <p:grpSp>
          <p:nvGrpSpPr>
            <p:cNvPr id="168" name=""/>
            <p:cNvGrpSpPr/>
            <p:nvPr/>
          </p:nvGrpSpPr>
          <p:grpSpPr>
            <a:xfrm>
              <a:off x="1904760" y="1828800"/>
              <a:ext cx="5714640" cy="4114800"/>
              <a:chOff x="1904760" y="1828800"/>
              <a:chExt cx="5714640" cy="4114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790960" y="285552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4960" y="29718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47680" y="3429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90760" y="45720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133360" y="2286000"/>
                <a:ext cx="5486040" cy="3657600"/>
                <a:chOff x="2133360" y="2286000"/>
                <a:chExt cx="5486040" cy="36576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2133360" y="2286000"/>
                  <a:ext cx="5486040" cy="3657600"/>
                  <a:chOff x="2133360" y="2286000"/>
                  <a:chExt cx="5486040" cy="36576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133360" y="2286000"/>
                    <a:ext cx="5486040" cy="3657600"/>
                    <a:chOff x="2133360" y="2286000"/>
                    <a:chExt cx="5486040" cy="365760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3847680" y="3200400"/>
                      <a:ext cx="2400120" cy="1257120"/>
                      <a:chOff x="3847680" y="3200400"/>
                      <a:chExt cx="2400120" cy="125712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3847680" y="3200400"/>
                        <a:ext cx="2400120" cy="1257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4990680" y="3543120"/>
                        <a:ext cx="114264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WML enabled Web Server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4076280" y="331452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PHP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4076280" y="3886200"/>
                        <a:ext cx="685440" cy="4568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spcBef>
                            <a:spcPts val="3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 u="sng">
                            <a:solidFill>
                              <a:srgbClr val="333399"/>
                            </a:solidFill>
                            <a:uFillTx/>
                            <a:latin typeface="Times New Roman"/>
                          </a:rPr>
                          <a:t>XSL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790960" y="2400120"/>
                      <a:ext cx="1028520" cy="3427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</a:rPr>
                        <a:t>Web Browser</a:t>
                      </a:r>
                      <a:endParaRPr b="0" lang="en-US" sz="11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90880" y="3543120"/>
                      <a:ext cx="1028520" cy="5713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nal Web Server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3847680" y="2286000"/>
                      <a:ext cx="1257120" cy="6854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mage Conversion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2133360" y="5029200"/>
                      <a:ext cx="4800600" cy="914400"/>
                      <a:chOff x="2133360" y="5029200"/>
                      <a:chExt cx="4800600" cy="91440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2133360" y="5029200"/>
                        <a:ext cx="4800600" cy="914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247480" y="5143320"/>
                        <a:ext cx="799920" cy="57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Database Servers</a:t>
                        </a:r>
                        <a:endPara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327600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327600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User Profile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41907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>
                        <a:off x="51051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6019560" y="5143320"/>
                        <a:ext cx="685800" cy="685800"/>
                      </a:xfrm>
                      <a:prstGeom prst="can">
                        <a:avLst>
                          <a:gd name="adj" fmla="val 25000"/>
                        </a:avLst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Transaction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4304880" y="5372280"/>
                        <a:ext cx="5713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Message Server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219280" y="537228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333399"/>
                            </a:solidFill>
                            <a:latin typeface="Times New Roman"/>
                          </a:rPr>
                          <a:t>Products Detail</a:t>
                        </a:r>
                        <a:endParaRPr b="0" lang="en-US" sz="800" spc="-1" strike="noStrike">
                          <a:solidFill>
                            <a:srgbClr val="333399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5105160" y="251424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419360" y="2971440"/>
                      <a:ext cx="0" cy="34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>
                      <a:off x="6248160" y="377172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V="1">
                      <a:off x="4533480" y="4457160"/>
                      <a:ext cx="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619080" y="2857320"/>
                      <a:ext cx="571320" cy="571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647960" y="4572000"/>
                      <a:ext cx="57132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XML</a:t>
                      </a:r>
                      <a:endParaRPr b="0" lang="en-US" sz="1200" spc="-1" strike="noStrike">
                        <a:solidFill>
                          <a:srgbClr val="3333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 flipH="1">
                    <a:off x="4761720" y="2743200"/>
                    <a:ext cx="1485720" cy="685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4419360" y="3771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4533480" y="365760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iv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533480" y="285552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04760" y="182880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imes New Roman"/>
                  </a:rPr>
                  <a:t>vii.</a:t>
                </a:r>
                <a:endParaRPr b="0" lang="en-US" sz="12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05" name=""/>
            <p:cNvGraphicFramePr/>
            <p:nvPr/>
          </p:nvGraphicFramePr>
          <p:xfrm>
            <a:off x="1752480" y="1676520"/>
            <a:ext cx="206676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480" y="1676520"/>
                      <a:ext cx="206676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ultiple Output Format Support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XML (eXtensible Markup Language) to represent data obtained from databas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Use XSL (eXtensible Style-sheet Lanaguage) to transform the data to different forma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ore output format (e.g. i-Mode) can be easily supported by adding appropriate XSL docu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4495680"/>
            <a:ext cx="7467480" cy="1981080"/>
            <a:chOff x="762120" y="4495680"/>
            <a:chExt cx="7467480" cy="1981080"/>
          </a:xfrm>
        </p:grpSpPr>
        <p:sp>
          <p:nvSpPr>
            <p:cNvPr id="210" name=""/>
            <p:cNvSpPr/>
            <p:nvPr/>
          </p:nvSpPr>
          <p:spPr>
            <a:xfrm>
              <a:off x="762120" y="5029200"/>
              <a:ext cx="1371600" cy="99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XS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for 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4495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HT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5638680"/>
              <a:ext cx="1447920" cy="83808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ML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0" idx="3"/>
              <a:endCxn id="211" idx="1"/>
            </p:cNvCxnSpPr>
            <p:nvPr/>
          </p:nvCxnSpPr>
          <p:spPr>
            <a:xfrm flipV="1">
              <a:off x="2133720" y="4914360"/>
              <a:ext cx="762480" cy="61056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10" idx="3"/>
              <a:endCxn id="212" idx="1"/>
            </p:cNvCxnSpPr>
            <p:nvPr/>
          </p:nvCxnSpPr>
          <p:spPr>
            <a:xfrm>
              <a:off x="2133720" y="5524200"/>
              <a:ext cx="762480" cy="5338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1" idx="3"/>
              <a:endCxn id="213" idx="1"/>
            </p:cNvCxnSpPr>
            <p:nvPr/>
          </p:nvCxnSpPr>
          <p:spPr>
            <a:xfrm>
              <a:off x="43430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12" idx="3"/>
              <a:endCxn id="214" idx="1"/>
            </p:cNvCxnSpPr>
            <p:nvPr/>
          </p:nvCxnSpPr>
          <p:spPr>
            <a:xfrm>
              <a:off x="43430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219" name=""/>
            <p:cNvSpPr/>
            <p:nvPr/>
          </p:nvSpPr>
          <p:spPr>
            <a:xfrm>
              <a:off x="7010280" y="4572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eb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Browser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5715000"/>
              <a:ext cx="1219320" cy="685800"/>
            </a:xfrm>
            <a:prstGeom prst="flowChartDisplay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ireless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Device</a:t>
              </a:r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3" idx="3"/>
              <a:endCxn id="219" idx="1"/>
            </p:cNvCxnSpPr>
            <p:nvPr/>
          </p:nvCxnSpPr>
          <p:spPr>
            <a:xfrm>
              <a:off x="6400440" y="4914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3"/>
              <a:endCxn id="220" idx="1"/>
            </p:cNvCxnSpPr>
            <p:nvPr/>
          </p:nvCxnSpPr>
          <p:spPr>
            <a:xfrm>
              <a:off x="6400440" y="6057360"/>
              <a:ext cx="610200" cy="108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Future Possibilities on WAP Application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Colour image support in WAP 2.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Advance in hardware equip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GPRS supports to switch between internet connection and voice call (Nokia 6310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3G network for animation/video streaming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Integration with Blue Tooth to enhance wireless environment and applic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xperienc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ined hands-on experiences on designing and implementing an e-commerce system with parallel development of web and WAP ver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 and skills on adapting and expecting changes are valuable since the Internet world is changing every minu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e have implemented an Internet second hand market application on web and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ave looked into following aspects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Browser detec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mage conversion of WBMP imag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parate data manipulation from layout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roducing animation in WA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ject Motivation, 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Highligh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aciliti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ystem Flow, Architec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e Output Format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ture Possibilities o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Motivation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edictions show th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 few years, wireless internet subscribers will outnumber wired internet subscrib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jor e-commerce development will then be on wireless mea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re will be a need to develop a wireless and a wired version of the site in parall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roject Objective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rough building a small-scale e-commerce site on both web and WAP (Wireless Application Protocol) versions, we aim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plore the world of e-commerce in it's beginning age of moving to the wireless worl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y to find a more effective and convenient way to achieve a goal under identified limitations on current WAP enviro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ystem Highlights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second hand market application was built with both web and WAP ver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y taking advantage of the concept of getting online anytime, anywhere with mobile access, buyer-seller interaction was being taken care o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1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r detection of same URL for convenie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web (HTML) vs WAP (WML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direct to different version upon reques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2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Graphic animation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static .wbmp format suppo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timer and ca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14600" y="3657600"/>
            <a:ext cx="4267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3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Web Regist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Member log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Post product in web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Browse Produ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66680" y="43434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ost" descr=""/>
          <p:cNvPicPr/>
          <p:nvPr/>
        </p:nvPicPr>
        <p:blipFill>
          <a:blip r:embed="rId7"/>
          <a:stretch/>
        </p:blipFill>
        <p:spPr>
          <a:xfrm>
            <a:off x="4876920" y="4343400"/>
            <a:ext cx="373356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waplogin" descr=""/>
          <p:cNvPicPr/>
          <p:nvPr/>
        </p:nvPicPr>
        <p:blipFill>
          <a:blip r:embed="rId8"/>
          <a:stretch/>
        </p:blipFill>
        <p:spPr>
          <a:xfrm>
            <a:off x="7086600" y="1752480"/>
            <a:ext cx="14954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webreg" descr=""/>
          <p:cNvPicPr/>
          <p:nvPr/>
        </p:nvPicPr>
        <p:blipFill>
          <a:blip r:embed="rId9"/>
          <a:stretch/>
        </p:blipFill>
        <p:spPr>
          <a:xfrm>
            <a:off x="4884840" y="1752480"/>
            <a:ext cx="21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新細明體"/>
              </a:rPr>
              <a:t>System Facilities (4)</a:t>
            </a:r>
            <a:endParaRPr b="1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新細明體"/>
              </a:rPr>
              <a:t>Support Web image format in W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Limitation: .wbmp is not a common web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新細明體"/>
              </a:rPr>
              <a:t>Approach: real time image conversion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438280" y="3733920"/>
            <a:ext cx="42674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9:09:04Z</dcterms:created>
  <dc:creator>wkyan</dc:creator>
  <dc:description/>
  <dc:language>en-US</dc:language>
  <cp:lastModifiedBy>hfwat</cp:lastModifiedBy>
  <dcterms:modified xsi:type="dcterms:W3CDTF">2001-04-23T05:54:58Z</dcterms:modified>
  <cp:revision>19</cp:revision>
  <dc:subject/>
  <dc:title>System Architecture</dc:title>
</cp:coreProperties>
</file>