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wmf" ContentType="image/x-wmf"/>
  <Override PartName="/ppt/media/image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48E3-D6A4-4391-BED5-EA296E7B7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708660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360" y="4446720"/>
            <a:ext cx="708660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60CA-AF5D-41B6-B2AE-55E9C6952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168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360" y="444672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1680" y="444672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197F-4ABC-485D-B85C-1D034CD39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86520" y="330984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2680" y="330984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360" y="444672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86520" y="444672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2680" y="444672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48AE-66C4-4C14-88BB-D83C2C13C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48879-9EB0-47A8-B78A-8410E3FAE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90360" y="3309840"/>
            <a:ext cx="7086600" cy="21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64899-F539-4CA0-9359-8626B804E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7086600" cy="21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B276D-0C39-4E23-9AB6-1F83C2A6E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3458160" cy="21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21680" y="3309840"/>
            <a:ext cx="3458160" cy="21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AF93E-646E-4D45-BEFC-21A9D6626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3B23D-ABEC-4FB2-B97E-51C298326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9C134-5491-4935-9EA9-755E1248D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1680" y="3309840"/>
            <a:ext cx="3458160" cy="21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90360" y="444672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86D99-A5D7-4665-9C00-663BDB51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360" y="3309840"/>
            <a:ext cx="7086600" cy="21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408B-ADDD-4AF7-9257-C57904E13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3458160" cy="21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168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21680" y="444672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BACD5-3AB9-4D67-B2C8-4F9D59D81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168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0360" y="4446720"/>
            <a:ext cx="708660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FD8F9-7958-48FE-AD91-D68EE822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708660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90360" y="4446720"/>
            <a:ext cx="708660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334B3-8C26-4742-AC6D-E0CA8CE87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2168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360" y="444672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21680" y="444672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7C425-B611-4B2A-92B2-EF0288AEE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86520" y="330984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82680" y="330984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90360" y="444672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86520" y="444672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82680" y="444672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72944-41E1-4ACC-B911-CE3D26D49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7086600" cy="21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628F-51BD-4DC2-A9FB-1B42AB8B1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3458160" cy="21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1680" y="3309840"/>
            <a:ext cx="3458160" cy="21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02F2-7D9E-4F5B-A12D-AC697A707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3C3A-2463-4A9F-9C1A-94441AEE4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62ED-181F-487E-BDC4-28F4799C3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1680" y="3309840"/>
            <a:ext cx="3458160" cy="21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360" y="444672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2835-C3BC-4E80-90A9-E541B1ADF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3458160" cy="21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168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1680" y="444672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6AAF-8F86-4F4D-BBC9-3F84C278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168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360" y="4446720"/>
            <a:ext cx="708660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7696-0245-4570-8C99-6E6043D59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33399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896B4-E4DE-4706-AEB3-490236951774}" type="slidenum">
              <a:rPr b="0" lang="en-US" sz="14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C105F-683B-4FDB-9820-BC17B5374D7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57200" y="457200"/>
            <a:ext cx="8305920" cy="5029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00"/>
                </a:solidFill>
                <a:latin typeface="Arial"/>
                <a:ea typeface="新細明體"/>
              </a:rPr>
              <a:t>LYU0001</a:t>
            </a:r>
            <a:br>
              <a:rPr sz="4000"/>
            </a:br>
            <a:r>
              <a:rPr b="1" lang="zh-TW" sz="4000" spc="-1" strike="noStrike">
                <a:solidFill>
                  <a:srgbClr val="ff0000"/>
                </a:solidFill>
                <a:latin typeface="Arial"/>
                <a:ea typeface="新細明體"/>
              </a:rPr>
              <a:t>Wireless-based Mobile</a:t>
            </a:r>
            <a:br>
              <a:rPr sz="4000"/>
            </a:br>
            <a:r>
              <a:rPr b="1" lang="zh-TW" sz="4000" spc="-1" strike="noStrike">
                <a:solidFill>
                  <a:srgbClr val="ff0000"/>
                </a:solidFill>
                <a:latin typeface="Arial"/>
                <a:ea typeface="新細明體"/>
              </a:rPr>
              <a:t>E-Commerce on the Web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990360" y="3309840"/>
            <a:ext cx="7086600" cy="21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Supervisor: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Prof. Michael R. Ly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Prepared By: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Wat Hong Fai, To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Yan Wai Keung, Har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724280" y="5975280"/>
            <a:ext cx="426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nal Year Project Presentation, Spring 2001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Chinese University of Hong Kong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artment of Computer Science and Engineering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System Facilities (5)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User interaction (1): Instant messag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Limitation: “Push” is not support in WAP 1.1, automatic refresh interrupts normal navigation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Approach: Check message every page reques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2819520" y="4038480"/>
            <a:ext cx="3809880" cy="24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System Facilities (6)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Read Response for two different brows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Accept the final price and make transa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609480" y="3587760"/>
            <a:ext cx="3962520" cy="25844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4648320" y="3587760"/>
            <a:ext cx="396216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System Facilities (7)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Check history of transact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Change Passwor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Change personal inform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9" name="history" descr=""/>
          <p:cNvPicPr/>
          <p:nvPr/>
        </p:nvPicPr>
        <p:blipFill>
          <a:blip r:embed="rId5"/>
          <a:stretch/>
        </p:blipFill>
        <p:spPr>
          <a:xfrm>
            <a:off x="1143000" y="3733920"/>
            <a:ext cx="3429000" cy="2895480"/>
          </a:xfrm>
          <a:prstGeom prst="rect">
            <a:avLst/>
          </a:prstGeom>
          <a:ln w="0">
            <a:noFill/>
          </a:ln>
        </p:spPr>
      </p:pic>
      <p:pic>
        <p:nvPicPr>
          <p:cNvPr id="120" name="changeinfo" descr=""/>
          <p:cNvPicPr/>
          <p:nvPr/>
        </p:nvPicPr>
        <p:blipFill>
          <a:blip r:embed="rId6"/>
          <a:stretch/>
        </p:blipFill>
        <p:spPr>
          <a:xfrm>
            <a:off x="4800600" y="3733920"/>
            <a:ext cx="3200400" cy="2895480"/>
          </a:xfrm>
          <a:prstGeom prst="rect">
            <a:avLst/>
          </a:prstGeom>
          <a:ln w="0">
            <a:noFill/>
          </a:ln>
        </p:spPr>
      </p:pic>
      <p:pic>
        <p:nvPicPr>
          <p:cNvPr id="121" name="wapchpwd" descr=""/>
          <p:cNvPicPr/>
          <p:nvPr/>
        </p:nvPicPr>
        <p:blipFill>
          <a:blip r:embed="rId7"/>
          <a:stretch/>
        </p:blipFill>
        <p:spPr>
          <a:xfrm>
            <a:off x="6553080" y="1600200"/>
            <a:ext cx="138600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System Facilities (8)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User interaction (2): Voice call over W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Limitation: copy down phone number, terminate WAP connection and then dial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Approach: WTAI to make phone call directly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2514600" y="4038480"/>
            <a:ext cx="3886200" cy="25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System Flow Design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434960" y="1371600"/>
            <a:ext cx="6718320" cy="5181480"/>
            <a:chOff x="1434960" y="1371600"/>
            <a:chExt cx="6718320" cy="5181480"/>
          </a:xfrm>
        </p:grpSpPr>
        <p:sp>
          <p:nvSpPr>
            <p:cNvPr id="127" name=""/>
            <p:cNvSpPr/>
            <p:nvPr/>
          </p:nvSpPr>
          <p:spPr>
            <a:xfrm>
              <a:off x="1434960" y="2088720"/>
              <a:ext cx="0" cy="430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762560" y="2487600"/>
              <a:ext cx="1966320" cy="3985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View status of sell / buy item(s)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220640" y="1371600"/>
              <a:ext cx="1310760" cy="23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333399"/>
                  </a:solidFill>
                  <a:uFillTx/>
                  <a:latin typeface="Times New Roman"/>
                </a:rPr>
                <a:t>Main page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875840" y="1610640"/>
              <a:ext cx="0" cy="15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745720" y="1770120"/>
              <a:ext cx="442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762560" y="1929600"/>
              <a:ext cx="1966320" cy="3985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Member’s login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762560" y="2965680"/>
              <a:ext cx="1966320" cy="3985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View transaction history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62560" y="4560120"/>
              <a:ext cx="1966320" cy="3985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View/edit personal information (#)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762560" y="5038560"/>
              <a:ext cx="1966320" cy="23904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Change password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56480" y="1929600"/>
              <a:ext cx="1966320" cy="3985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* Browse sell / buy category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56480" y="2487600"/>
              <a:ext cx="1966320" cy="23904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* Item descriptions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056480" y="2965680"/>
              <a:ext cx="1966320" cy="3985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Make response to product owner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186960" y="1929600"/>
              <a:ext cx="1966320" cy="3985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* Register as new user (#)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762560" y="3444120"/>
              <a:ext cx="1966320" cy="3985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Read simple message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762560" y="5357520"/>
              <a:ext cx="1966320" cy="3985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Post product to sell / buy category (#)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762560" y="6314040"/>
              <a:ext cx="1966320" cy="23904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Logout (#)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762560" y="3922560"/>
              <a:ext cx="1966320" cy="55800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Read product response from interested party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434960" y="639360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434960" y="416160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434960" y="368316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434960" y="551700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434960" y="519804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434960" y="471960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434960" y="320508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434960" y="272664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745720" y="1770120"/>
              <a:ext cx="0" cy="15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875840" y="1770120"/>
              <a:ext cx="0" cy="15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434960" y="208872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56480" y="3444120"/>
              <a:ext cx="1966320" cy="39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Reply to the sender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728880" y="368316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56480" y="3922560"/>
              <a:ext cx="1966320" cy="5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Reply the response or accept to make transaction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728880" y="416160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762560" y="5835600"/>
              <a:ext cx="1966320" cy="39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Send message to registered users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434960" y="599508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170120" y="1770120"/>
              <a:ext cx="0" cy="15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728880" y="208872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75840" y="2328120"/>
              <a:ext cx="0" cy="15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75840" y="2726640"/>
              <a:ext cx="0" cy="23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86960" y="2487600"/>
              <a:ext cx="1966320" cy="1674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All facilities are available for web version after user login to the system except: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*: Facilities available for users haven’t login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(#): Not available for WAP version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System Architecture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752480" y="1676520"/>
            <a:ext cx="5866920" cy="4267080"/>
            <a:chOff x="1752480" y="1676520"/>
            <a:chExt cx="5866920" cy="4267080"/>
          </a:xfrm>
        </p:grpSpPr>
        <p:grpSp>
          <p:nvGrpSpPr>
            <p:cNvPr id="168" name=""/>
            <p:cNvGrpSpPr/>
            <p:nvPr/>
          </p:nvGrpSpPr>
          <p:grpSpPr>
            <a:xfrm>
              <a:off x="1904760" y="1828800"/>
              <a:ext cx="5714640" cy="4114800"/>
              <a:chOff x="1904760" y="1828800"/>
              <a:chExt cx="5714640" cy="4114800"/>
            </a:xfrm>
          </p:grpSpPr>
          <p:sp>
            <p:nvSpPr>
              <p:cNvPr id="169" name=""/>
              <p:cNvSpPr/>
              <p:nvPr/>
            </p:nvSpPr>
            <p:spPr>
              <a:xfrm>
                <a:off x="5790960" y="2855520"/>
                <a:ext cx="45720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Times New Roman"/>
                  </a:rPr>
                  <a:t>i.</a:t>
                </a:r>
                <a:endParaRPr b="0" lang="en-US" sz="12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504960" y="2971800"/>
                <a:ext cx="34272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Times New Roman"/>
                  </a:rPr>
                  <a:t>i.</a:t>
                </a:r>
                <a:endParaRPr b="0" lang="en-US" sz="12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847680" y="3429000"/>
                <a:ext cx="45720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Times New Roman"/>
                  </a:rPr>
                  <a:t>ii.</a:t>
                </a:r>
                <a:endParaRPr b="0" lang="en-US" sz="12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190760" y="4572000"/>
                <a:ext cx="45720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Times New Roman"/>
                  </a:rPr>
                  <a:t>iii.</a:t>
                </a:r>
                <a:endParaRPr b="0" lang="en-US" sz="12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173" name=""/>
              <p:cNvGrpSpPr/>
              <p:nvPr/>
            </p:nvGrpSpPr>
            <p:grpSpPr>
              <a:xfrm>
                <a:off x="2133360" y="2286000"/>
                <a:ext cx="5486040" cy="3657600"/>
                <a:chOff x="2133360" y="2286000"/>
                <a:chExt cx="5486040" cy="3657600"/>
              </a:xfrm>
            </p:grpSpPr>
            <p:grpSp>
              <p:nvGrpSpPr>
                <p:cNvPr id="174" name=""/>
                <p:cNvGrpSpPr/>
                <p:nvPr/>
              </p:nvGrpSpPr>
              <p:grpSpPr>
                <a:xfrm>
                  <a:off x="2133360" y="2286000"/>
                  <a:ext cx="5486040" cy="3657600"/>
                  <a:chOff x="2133360" y="2286000"/>
                  <a:chExt cx="5486040" cy="3657600"/>
                </a:xfrm>
              </p:grpSpPr>
              <p:grpSp>
                <p:nvGrpSpPr>
                  <p:cNvPr id="175" name=""/>
                  <p:cNvGrpSpPr/>
                  <p:nvPr/>
                </p:nvGrpSpPr>
                <p:grpSpPr>
                  <a:xfrm>
                    <a:off x="2133360" y="2286000"/>
                    <a:ext cx="5486040" cy="3657600"/>
                    <a:chOff x="2133360" y="2286000"/>
                    <a:chExt cx="5486040" cy="3657600"/>
                  </a:xfrm>
                </p:grpSpPr>
                <p:grpSp>
                  <p:nvGrpSpPr>
                    <p:cNvPr id="176" name=""/>
                    <p:cNvGrpSpPr/>
                    <p:nvPr/>
                  </p:nvGrpSpPr>
                  <p:grpSpPr>
                    <a:xfrm>
                      <a:off x="3847680" y="3200400"/>
                      <a:ext cx="2400120" cy="1257120"/>
                      <a:chOff x="3847680" y="3200400"/>
                      <a:chExt cx="2400120" cy="1257120"/>
                    </a:xfrm>
                  </p:grpSpPr>
                  <p:sp>
                    <p:nvSpPr>
                      <p:cNvPr id="177" name=""/>
                      <p:cNvSpPr/>
                      <p:nvPr/>
                    </p:nvSpPr>
                    <p:spPr>
                      <a:xfrm>
                        <a:off x="3847680" y="3200400"/>
                        <a:ext cx="2400120" cy="125712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8" name=""/>
                      <p:cNvSpPr/>
                      <p:nvPr/>
                    </p:nvSpPr>
                    <p:spPr>
                      <a:xfrm>
                        <a:off x="4990680" y="3543120"/>
                        <a:ext cx="1142640" cy="571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333399"/>
                            </a:solidFill>
                            <a:latin typeface="Times New Roman"/>
                          </a:rPr>
                          <a:t>WML enabled Web Server</a:t>
                        </a:r>
                        <a:endPara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9" name=""/>
                      <p:cNvSpPr/>
                      <p:nvPr/>
                    </p:nvSpPr>
                    <p:spPr>
                      <a:xfrm>
                        <a:off x="4076280" y="3314520"/>
                        <a:ext cx="685440" cy="45684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spcBef>
                            <a:spcPts val="3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 u="sng">
                            <a:solidFill>
                              <a:srgbClr val="333399"/>
                            </a:solidFill>
                            <a:uFillTx/>
                            <a:latin typeface="Times New Roman"/>
                          </a:rPr>
                          <a:t>PHP</a:t>
                        </a:r>
                        <a:endPara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0" name=""/>
                      <p:cNvSpPr/>
                      <p:nvPr/>
                    </p:nvSpPr>
                    <p:spPr>
                      <a:xfrm>
                        <a:off x="4076280" y="3886200"/>
                        <a:ext cx="685440" cy="45684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spcBef>
                            <a:spcPts val="3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 u="sng">
                            <a:solidFill>
                              <a:srgbClr val="333399"/>
                            </a:solidFill>
                            <a:uFillTx/>
                            <a:latin typeface="Times New Roman"/>
                          </a:rPr>
                          <a:t>XSL</a:t>
                        </a:r>
                        <a:endPara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5790960" y="2400120"/>
                      <a:ext cx="1028520" cy="3427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 u="sng">
                          <a:solidFill>
                            <a:srgbClr val="333399"/>
                          </a:solidFill>
                          <a:uFillTx/>
                          <a:latin typeface="Times New Roman"/>
                        </a:rPr>
                        <a:t>Web Browser</a:t>
                      </a:r>
                      <a:endParaRPr b="0" lang="en-US" sz="11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6590880" y="3543120"/>
                      <a:ext cx="1028520" cy="5713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xternal Web Server</a:t>
                      </a:r>
                      <a:endParaRPr b="0" lang="en-US" sz="12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" name=""/>
                    <p:cNvSpPr/>
                    <p:nvPr/>
                  </p:nvSpPr>
                  <p:spPr>
                    <a:xfrm>
                      <a:off x="3847680" y="2286000"/>
                      <a:ext cx="1257120" cy="68544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mage Conversion</a:t>
                      </a:r>
                      <a:endParaRPr b="0" lang="en-US" sz="12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84" name=""/>
                    <p:cNvGrpSpPr/>
                    <p:nvPr/>
                  </p:nvGrpSpPr>
                  <p:grpSpPr>
                    <a:xfrm>
                      <a:off x="2133360" y="5029200"/>
                      <a:ext cx="4800600" cy="914400"/>
                      <a:chOff x="2133360" y="5029200"/>
                      <a:chExt cx="4800600" cy="914400"/>
                    </a:xfrm>
                  </p:grpSpPr>
                  <p:sp>
                    <p:nvSpPr>
                      <p:cNvPr id="185" name=""/>
                      <p:cNvSpPr/>
                      <p:nvPr/>
                    </p:nvSpPr>
                    <p:spPr>
                      <a:xfrm>
                        <a:off x="2133360" y="5029200"/>
                        <a:ext cx="4800600" cy="91440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6" name=""/>
                      <p:cNvSpPr/>
                      <p:nvPr/>
                    </p:nvSpPr>
                    <p:spPr>
                      <a:xfrm>
                        <a:off x="2247480" y="5143320"/>
                        <a:ext cx="799920" cy="571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333399"/>
                            </a:solidFill>
                            <a:latin typeface="Times New Roman"/>
                          </a:rPr>
                          <a:t>Database Servers</a:t>
                        </a:r>
                        <a:endPara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7" name=""/>
                      <p:cNvSpPr/>
                      <p:nvPr/>
                    </p:nvSpPr>
                    <p:spPr>
                      <a:xfrm>
                        <a:off x="3276000" y="5143320"/>
                        <a:ext cx="685800" cy="685800"/>
                      </a:xfrm>
                      <a:prstGeom prst="can">
                        <a:avLst>
                          <a:gd name="adj" fmla="val 25000"/>
                        </a:avLst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8" name=""/>
                      <p:cNvSpPr/>
                      <p:nvPr/>
                    </p:nvSpPr>
                    <p:spPr>
                      <a:xfrm>
                        <a:off x="3276000" y="5372280"/>
                        <a:ext cx="685800" cy="342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en-US" sz="800" spc="-1" strike="noStrike">
                            <a:solidFill>
                              <a:srgbClr val="333399"/>
                            </a:solidFill>
                            <a:latin typeface="Times New Roman"/>
                          </a:rPr>
                          <a:t>User Profile</a:t>
                        </a:r>
                        <a:endParaRPr b="0" lang="en-US" sz="8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9" name=""/>
                      <p:cNvSpPr/>
                      <p:nvPr/>
                    </p:nvSpPr>
                    <p:spPr>
                      <a:xfrm>
                        <a:off x="4190760" y="5143320"/>
                        <a:ext cx="685800" cy="685800"/>
                      </a:xfrm>
                      <a:prstGeom prst="can">
                        <a:avLst>
                          <a:gd name="adj" fmla="val 25000"/>
                        </a:avLst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0" name=""/>
                      <p:cNvSpPr/>
                      <p:nvPr/>
                    </p:nvSpPr>
                    <p:spPr>
                      <a:xfrm>
                        <a:off x="5105160" y="5143320"/>
                        <a:ext cx="685800" cy="685800"/>
                      </a:xfrm>
                      <a:prstGeom prst="can">
                        <a:avLst>
                          <a:gd name="adj" fmla="val 25000"/>
                        </a:avLst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1" name=""/>
                      <p:cNvSpPr/>
                      <p:nvPr/>
                    </p:nvSpPr>
                    <p:spPr>
                      <a:xfrm>
                        <a:off x="6019560" y="5143320"/>
                        <a:ext cx="685800" cy="685800"/>
                      </a:xfrm>
                      <a:prstGeom prst="can">
                        <a:avLst>
                          <a:gd name="adj" fmla="val 25000"/>
                        </a:avLst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800" spc="-1" strike="noStrike">
                            <a:solidFill>
                              <a:srgbClr val="333399"/>
                            </a:solidFill>
                            <a:latin typeface="Times New Roman"/>
                          </a:rPr>
                          <a:t>Transaction</a:t>
                        </a:r>
                        <a:endParaRPr b="0" lang="en-US" sz="8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2" name=""/>
                      <p:cNvSpPr/>
                      <p:nvPr/>
                    </p:nvSpPr>
                    <p:spPr>
                      <a:xfrm>
                        <a:off x="4304880" y="5372280"/>
                        <a:ext cx="571320" cy="342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800" spc="-1" strike="noStrike">
                            <a:solidFill>
                              <a:srgbClr val="333399"/>
                            </a:solidFill>
                            <a:latin typeface="Times New Roman"/>
                          </a:rPr>
                          <a:t>Message Server</a:t>
                        </a:r>
                        <a:endParaRPr b="0" lang="en-US" sz="8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3" name=""/>
                      <p:cNvSpPr/>
                      <p:nvPr/>
                    </p:nvSpPr>
                    <p:spPr>
                      <a:xfrm>
                        <a:off x="5219280" y="5372280"/>
                        <a:ext cx="685800" cy="342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800" spc="-1" strike="noStrike">
                            <a:solidFill>
                              <a:srgbClr val="333399"/>
                            </a:solidFill>
                            <a:latin typeface="Times New Roman"/>
                          </a:rPr>
                          <a:t>Products Detail</a:t>
                        </a:r>
                        <a:endParaRPr b="0" lang="en-US" sz="8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5105160" y="2514240"/>
                      <a:ext cx="6858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4419360" y="2971440"/>
                      <a:ext cx="0" cy="3427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 flipH="1">
                      <a:off x="6248160" y="3771720"/>
                      <a:ext cx="3427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flipV="1">
                      <a:off x="4533480" y="4457160"/>
                      <a:ext cx="0" cy="571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headEnd len="med" type="triangle" w="med"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3619080" y="2857320"/>
                      <a:ext cx="571320" cy="571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headEnd len="med" type="triangle" w="med"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4647960" y="4572000"/>
                      <a:ext cx="571320" cy="342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XML</a:t>
                      </a:r>
                      <a:endParaRPr b="0" lang="en-US" sz="12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00" name=""/>
                  <p:cNvSpPr/>
                  <p:nvPr/>
                </p:nvSpPr>
                <p:spPr>
                  <a:xfrm flipH="1">
                    <a:off x="4761720" y="2743200"/>
                    <a:ext cx="1485720" cy="685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1" name=""/>
                <p:cNvSpPr/>
                <p:nvPr/>
              </p:nvSpPr>
              <p:spPr>
                <a:xfrm>
                  <a:off x="4419360" y="3771720"/>
                  <a:ext cx="0" cy="11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2" name=""/>
              <p:cNvSpPr/>
              <p:nvPr/>
            </p:nvSpPr>
            <p:spPr>
              <a:xfrm>
                <a:off x="4533480" y="3657600"/>
                <a:ext cx="34272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Times New Roman"/>
                  </a:rPr>
                  <a:t>iv.</a:t>
                </a:r>
                <a:endParaRPr b="0" lang="en-US" sz="12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533480" y="2855520"/>
                <a:ext cx="34272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Times New Roman"/>
                  </a:rPr>
                  <a:t>vi.</a:t>
                </a:r>
                <a:endParaRPr b="0" lang="en-US" sz="12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904760" y="1828800"/>
                <a:ext cx="45720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Times New Roman"/>
                  </a:rPr>
                  <a:t>vii.</a:t>
                </a:r>
                <a:endParaRPr b="0" lang="en-US" sz="12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205" name=""/>
            <p:cNvGraphicFramePr/>
            <p:nvPr/>
          </p:nvGraphicFramePr>
          <p:xfrm>
            <a:off x="1752480" y="1676520"/>
            <a:ext cx="2066760" cy="1371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0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752480" y="1676520"/>
                      <a:ext cx="2066760" cy="137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Multiple Output Format Support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XML (eXtensible Markup Language) to represent data obtained from databas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Use XSL (eXtensible Style-sheet Lanaguage) to transform the data to different formats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More output format (e.g. i-Mode) can be easily supported by adding appropriate XSL documen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762120" y="4495680"/>
            <a:ext cx="7467480" cy="1981080"/>
            <a:chOff x="762120" y="4495680"/>
            <a:chExt cx="7467480" cy="1981080"/>
          </a:xfrm>
        </p:grpSpPr>
        <p:sp>
          <p:nvSpPr>
            <p:cNvPr id="210" name=""/>
            <p:cNvSpPr/>
            <p:nvPr/>
          </p:nvSpPr>
          <p:spPr>
            <a:xfrm>
              <a:off x="762120" y="5029200"/>
              <a:ext cx="1371600" cy="9903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XML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895480" y="4495680"/>
              <a:ext cx="1447920" cy="83808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XSL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for HTML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895480" y="5638680"/>
              <a:ext cx="1447920" cy="83808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XSL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for WML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952880" y="4495680"/>
              <a:ext cx="1447920" cy="83808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HTML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952880" y="5638680"/>
              <a:ext cx="1447920" cy="83808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WML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cxnSp>
          <p:nvCxnSpPr>
            <p:cNvPr id="215" name=""/>
            <p:cNvCxnSpPr>
              <a:stCxn id="210" idx="3"/>
              <a:endCxn id="211" idx="1"/>
            </p:cNvCxnSpPr>
            <p:nvPr/>
          </p:nvCxnSpPr>
          <p:spPr>
            <a:xfrm flipV="1">
              <a:off x="2133720" y="4914360"/>
              <a:ext cx="762480" cy="61056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16" name=""/>
            <p:cNvCxnSpPr>
              <a:stCxn id="210" idx="3"/>
              <a:endCxn id="212" idx="1"/>
            </p:cNvCxnSpPr>
            <p:nvPr/>
          </p:nvCxnSpPr>
          <p:spPr>
            <a:xfrm>
              <a:off x="2133720" y="5524200"/>
              <a:ext cx="762480" cy="53388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17" name=""/>
            <p:cNvCxnSpPr>
              <a:stCxn id="211" idx="3"/>
              <a:endCxn id="213" idx="1"/>
            </p:cNvCxnSpPr>
            <p:nvPr/>
          </p:nvCxnSpPr>
          <p:spPr>
            <a:xfrm>
              <a:off x="4343040" y="4914360"/>
              <a:ext cx="610200" cy="108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18" name=""/>
            <p:cNvCxnSpPr>
              <a:stCxn id="212" idx="3"/>
              <a:endCxn id="214" idx="1"/>
            </p:cNvCxnSpPr>
            <p:nvPr/>
          </p:nvCxnSpPr>
          <p:spPr>
            <a:xfrm>
              <a:off x="4343040" y="6057360"/>
              <a:ext cx="610200" cy="108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sp>
          <p:nvSpPr>
            <p:cNvPr id="219" name=""/>
            <p:cNvSpPr/>
            <p:nvPr/>
          </p:nvSpPr>
          <p:spPr>
            <a:xfrm>
              <a:off x="7010280" y="4572000"/>
              <a:ext cx="1219320" cy="685800"/>
            </a:xfrm>
            <a:prstGeom prst="flowChartDisplay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Web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Browser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010280" y="5715000"/>
              <a:ext cx="1219320" cy="685800"/>
            </a:xfrm>
            <a:prstGeom prst="flowChartDisplay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Wireless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Device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cxnSp>
          <p:nvCxnSpPr>
            <p:cNvPr id="221" name=""/>
            <p:cNvCxnSpPr>
              <a:stCxn id="213" idx="3"/>
              <a:endCxn id="219" idx="1"/>
            </p:cNvCxnSpPr>
            <p:nvPr/>
          </p:nvCxnSpPr>
          <p:spPr>
            <a:xfrm>
              <a:off x="6400440" y="4914360"/>
              <a:ext cx="610200" cy="108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22" name=""/>
            <p:cNvCxnSpPr>
              <a:stCxn id="214" idx="3"/>
              <a:endCxn id="220" idx="1"/>
            </p:cNvCxnSpPr>
            <p:nvPr/>
          </p:nvCxnSpPr>
          <p:spPr>
            <a:xfrm>
              <a:off x="6400440" y="6057360"/>
              <a:ext cx="610200" cy="108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Future Possibilities on WAP Applications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Colour image support in WAP 2.0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Advance in hardware equip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GPRS supports to switch between internet connection and voice call (Nokia 6310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3G network for animation/video streaming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Integration with Blue Tooth to enhance wireless environment and applicat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Experiences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Gained hands-on experiences on designing and implementing an e-commerce system with parallel development of web and WAP vers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xperience and skills on adapting and expecting changes are valuable since the Internet world is changing every minut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e have implemented an Internet second hand market application on web and W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ave looked into following aspects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Browser detec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mage conversion of WBMP image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eparate data manipulation from layout desig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Producing animation in WAP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Outline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roject Motivation, Objectiv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ystem Highligh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ystem Faciliti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ystem Flow, Architectur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ultiple Output Format Suppor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uture Possibilities on W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xperienc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072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hank You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Project Motivation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redictions show th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n a few years, wireless internet subscribers will outnumber wired internet subscriber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ajor e-commerce development will then be on wireless mea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ere will be a need to develop a wireless and a wired version of the site in parall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Project Objectives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rough building a small-scale e-commerce site on both web and WAP (Wireless Application Protocol) versions, we aim to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Explore the world of e-commerce in it's beginning age of moving to the wireless world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ry to find a more effective and convenient way to achieve a goal under identified limitations on current WAP environmen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System Highlights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 second hand market application was built with both web and WAP ver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By taking advantage of the concept of getting online anytime, anywhere with mobile access, buyer-seller interaction was being taken care of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System Facilities (1)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Browser detection of same URL for convenienc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Limitation: web (HTML) vs WAP (WML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Approach: redirect to different version upon reques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990720" y="4191120"/>
            <a:ext cx="3504960" cy="2286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4800600" y="4191120"/>
            <a:ext cx="35053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System Facilities (2)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Graphic animation in W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Limitation: static .wbmp format suppor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Approach: timer and cach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2514600" y="3657600"/>
            <a:ext cx="4267080" cy="27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System Facilities (3)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Web Registr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Member logi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Post product in web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Browse Produc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1066680" y="4343400"/>
            <a:ext cx="3505320" cy="2286000"/>
          </a:xfrm>
          <a:prstGeom prst="rect">
            <a:avLst/>
          </a:prstGeom>
          <a:ln w="0">
            <a:noFill/>
          </a:ln>
        </p:spPr>
      </p:pic>
      <p:pic>
        <p:nvPicPr>
          <p:cNvPr id="104" name="post" descr=""/>
          <p:cNvPicPr/>
          <p:nvPr/>
        </p:nvPicPr>
        <p:blipFill>
          <a:blip r:embed="rId7"/>
          <a:stretch/>
        </p:blipFill>
        <p:spPr>
          <a:xfrm>
            <a:off x="4876920" y="4343400"/>
            <a:ext cx="3733560" cy="2270160"/>
          </a:xfrm>
          <a:prstGeom prst="rect">
            <a:avLst/>
          </a:prstGeom>
          <a:ln w="0">
            <a:noFill/>
          </a:ln>
        </p:spPr>
      </p:pic>
      <p:pic>
        <p:nvPicPr>
          <p:cNvPr id="105" name="waplogin" descr=""/>
          <p:cNvPicPr/>
          <p:nvPr/>
        </p:nvPicPr>
        <p:blipFill>
          <a:blip r:embed="rId8"/>
          <a:stretch/>
        </p:blipFill>
        <p:spPr>
          <a:xfrm>
            <a:off x="7086600" y="1752480"/>
            <a:ext cx="1495440" cy="2371680"/>
          </a:xfrm>
          <a:prstGeom prst="rect">
            <a:avLst/>
          </a:prstGeom>
          <a:ln w="0">
            <a:noFill/>
          </a:ln>
        </p:spPr>
      </p:pic>
      <p:pic>
        <p:nvPicPr>
          <p:cNvPr id="106" name="webreg" descr=""/>
          <p:cNvPicPr/>
          <p:nvPr/>
        </p:nvPicPr>
        <p:blipFill>
          <a:blip r:embed="rId9"/>
          <a:stretch/>
        </p:blipFill>
        <p:spPr>
          <a:xfrm>
            <a:off x="4884840" y="1752480"/>
            <a:ext cx="216216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System Facilities (4)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Support Web image format in W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Limitation: .wbmp is not a common web forma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Approach: real time image conversion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2438280" y="3733920"/>
            <a:ext cx="4267440" cy="27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2T09:09:04Z</dcterms:created>
  <dc:creator>wkyan</dc:creator>
  <dc:description/>
  <dc:language>en-US</dc:language>
  <cp:lastModifiedBy>hfwat</cp:lastModifiedBy>
  <dcterms:modified xsi:type="dcterms:W3CDTF">2001-04-23T05:54:58Z</dcterms:modified>
  <cp:revision>19</cp:revision>
  <dc:subject/>
  <dc:title>System Architecture</dc:title>
</cp:coreProperties>
</file>