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CCB-730B-44CB-A9E3-18737AB4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BBB-28DE-4AF1-82ED-6F664000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AF5-461F-4A19-BA8D-F7B6201F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647-73F0-40DC-968D-C6D4321E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9936-14F8-4DBB-99A6-BA7167CA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BBA8-A4E4-43C9-A7A6-5589DAB5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9D8D-FEEE-4315-BD47-5CC2B62F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7CC8-6324-45D9-9DDF-C51A215D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174E-A696-42B7-9C49-B41C8B9D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1DBA-578E-45C4-A0AF-AEA08148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6FB9-66E1-4EED-9174-F403705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678-1123-48BE-B55C-5BE60C5B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024D-01FE-4D25-8AC8-3430B9DD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76B6-AEDC-4BE0-ABA2-342594B0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8A34-2BE7-47F4-B655-C71C6377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7005-CEDD-46F7-BF7A-3D81CD08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950D-4CEF-4775-9C07-BBDA2FCF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E70-9747-4A99-9384-67039E1A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33A-07CD-4529-A292-7E65C8EA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4EC-B246-4AEC-91FC-BA41C0FF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850-7608-4BA7-92F8-D16BA424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4A3-C346-437A-86B0-9825A9F4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908-68C9-4013-AFDF-95192973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451-6B46-48E2-B601-DDB5BA27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51D0-D717-4910-9C3C-1323EBF0E987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60C4-79D2-4734-B015-B829B26B86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57200"/>
            <a:ext cx="830592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LYU0001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Wireless-based Mobile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E-Commerce on the Web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upervisor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of. Michael R. L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epared By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t Hong Fai, 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Yan Wai Keung, Har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97528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Year Project Presentation, Spring 2001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inese University of Hong Ko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omputer Science and Engineeri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5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1): Instant messa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“Push” is not support in WAP 1.1, automatic refresh interrupts normal naviga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Check message every page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4038480"/>
            <a:ext cx="38098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6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Read Response for two different brows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ccept the final price and make transa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09480" y="3587760"/>
            <a:ext cx="3962520" cy="258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8320" y="3587760"/>
            <a:ext cx="39621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7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eck history of trans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asswor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ersonal infor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history" descr=""/>
          <p:cNvPicPr/>
          <p:nvPr/>
        </p:nvPicPr>
        <p:blipFill>
          <a:blip r:embed="rId5"/>
          <a:stretch/>
        </p:blipFill>
        <p:spPr>
          <a:xfrm>
            <a:off x="1143000" y="37339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changeinfo" descr=""/>
          <p:cNvPicPr/>
          <p:nvPr/>
        </p:nvPicPr>
        <p:blipFill>
          <a:blip r:embed="rId6"/>
          <a:stretch/>
        </p:blipFill>
        <p:spPr>
          <a:xfrm>
            <a:off x="4800600" y="37339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wapchpwd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1386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8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2): Voice call over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copy down phone number, terminate WAP connection and then di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WTAI to make phone call directl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886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low Desig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34960" y="1371600"/>
            <a:ext cx="6718320" cy="5181480"/>
            <a:chOff x="1434960" y="1371600"/>
            <a:chExt cx="6718320" cy="5181480"/>
          </a:xfrm>
        </p:grpSpPr>
        <p:sp>
          <p:nvSpPr>
            <p:cNvPr id="127" name=""/>
            <p:cNvSpPr/>
            <p:nvPr/>
          </p:nvSpPr>
          <p:spPr>
            <a:xfrm>
              <a:off x="1434960" y="2088720"/>
              <a:ext cx="0" cy="43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2560" y="2487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status of sell / buy item(s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0640" y="1371600"/>
              <a:ext cx="131076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Main p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5840" y="161064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5720" y="1770120"/>
              <a:ext cx="44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25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ember’s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256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transaction hist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2560" y="4560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/edit personal information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2560" y="503856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Change password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648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Browse sell / buy categ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6480" y="248760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Item description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648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ake response to product own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69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Register as new user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560" y="3444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simple mess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62560" y="53575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Post product to sell / buy category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2560" y="631404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Logout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2560" y="3922560"/>
              <a:ext cx="1966320" cy="558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product response from interested part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34960" y="6393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496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496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4960" y="55170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34960" y="51980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4960" y="4719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34960" y="320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4960" y="27266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57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584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496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6480" y="344412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o the send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2888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6480" y="3922560"/>
              <a:ext cx="196632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he response or accept to make transact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88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2560" y="583560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Send message to registered user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34960" y="599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01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840" y="232812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5840" y="272664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960" y="2487600"/>
              <a:ext cx="1966320" cy="167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All facilities are available for web version after user login to the system except: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: Facilities available for users haven’t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(#): Not available for WAP vers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Architectur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1676520"/>
            <a:ext cx="5866920" cy="4267080"/>
            <a:chOff x="1752480" y="1676520"/>
            <a:chExt cx="5866920" cy="4267080"/>
          </a:xfrm>
        </p:grpSpPr>
        <p:grpSp>
          <p:nvGrpSpPr>
            <p:cNvPr id="168" name=""/>
            <p:cNvGrpSpPr/>
            <p:nvPr/>
          </p:nvGrpSpPr>
          <p:grpSpPr>
            <a:xfrm>
              <a:off x="1904760" y="1828800"/>
              <a:ext cx="5714640" cy="4114800"/>
              <a:chOff x="1904760" y="1828800"/>
              <a:chExt cx="5714640" cy="411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790960" y="285552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4960" y="2971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47680" y="3429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90760" y="4572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133360" y="2286000"/>
                <a:ext cx="5486040" cy="3657600"/>
                <a:chOff x="2133360" y="2286000"/>
                <a:chExt cx="5486040" cy="36576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133360" y="2286000"/>
                  <a:ext cx="5486040" cy="3657600"/>
                  <a:chOff x="2133360" y="2286000"/>
                  <a:chExt cx="5486040" cy="36576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133360" y="2286000"/>
                    <a:ext cx="5486040" cy="3657600"/>
                    <a:chOff x="2133360" y="2286000"/>
                    <a:chExt cx="5486040" cy="36576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3847680" y="3200400"/>
                      <a:ext cx="2400120" cy="1257120"/>
                      <a:chOff x="3847680" y="3200400"/>
                      <a:chExt cx="2400120" cy="125712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3847680" y="3200400"/>
                        <a:ext cx="2400120" cy="12571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990680" y="3543120"/>
                        <a:ext cx="114264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WML enabled Web Server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076280" y="331452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PHP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076280" y="388620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XSL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5790960" y="2400120"/>
                      <a:ext cx="1028520" cy="342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</a:rPr>
                        <a:t>Web Browser</a:t>
                      </a:r>
                      <a:endParaRPr b="0" lang="en-US" sz="11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90880" y="3543120"/>
                      <a:ext cx="1028520" cy="5713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nal Web Server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847680" y="2286000"/>
                      <a:ext cx="1257120" cy="685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mage Conversion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133360" y="5029200"/>
                      <a:ext cx="4800600" cy="914400"/>
                      <a:chOff x="2133360" y="5029200"/>
                      <a:chExt cx="4800600" cy="91440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2133360" y="5029200"/>
                        <a:ext cx="4800600" cy="914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247480" y="5143320"/>
                        <a:ext cx="79992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Database Servers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327600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27600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User Profile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41907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51051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60195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Transaction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4304880" y="5372280"/>
                        <a:ext cx="5713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Message Server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521928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Products Detail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5105160" y="25142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19360" y="2971440"/>
                      <a:ext cx="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6248160" y="377172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4533480" y="4457160"/>
                      <a:ext cx="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619080" y="2857320"/>
                      <a:ext cx="57132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647960" y="4572000"/>
                      <a:ext cx="57132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 flipH="1">
                    <a:off x="4761720" y="2743200"/>
                    <a:ext cx="148572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419360" y="3771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4533480" y="36576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v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33480" y="285552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4760" y="18288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1752480" y="1676520"/>
            <a:ext cx="206676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1676520"/>
                      <a:ext cx="20667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ultiple Output Format Suppor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XML (eXtensible Markup Language) to represent data obtained from datab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e XSL (eXtensible Style-sheet Lanaguage) to transform the data to different forma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output format (e.g. i-Mode) can be easily supported by adding appropriate XSL docu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4495680"/>
            <a:ext cx="7467480" cy="1981080"/>
            <a:chOff x="762120" y="4495680"/>
            <a:chExt cx="7467480" cy="1981080"/>
          </a:xfrm>
        </p:grpSpPr>
        <p:sp>
          <p:nvSpPr>
            <p:cNvPr id="210" name=""/>
            <p:cNvSpPr/>
            <p:nvPr/>
          </p:nvSpPr>
          <p:spPr>
            <a:xfrm>
              <a:off x="762120" y="5029200"/>
              <a:ext cx="1371600" cy="99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0" idx="3"/>
              <a:endCxn id="211" idx="1"/>
            </p:cNvCxnSpPr>
            <p:nvPr/>
          </p:nvCxnSpPr>
          <p:spPr>
            <a:xfrm flipV="1">
              <a:off x="2133720" y="4914360"/>
              <a:ext cx="762480" cy="6105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10" idx="3"/>
              <a:endCxn id="212" idx="1"/>
            </p:cNvCxnSpPr>
            <p:nvPr/>
          </p:nvCxnSpPr>
          <p:spPr>
            <a:xfrm>
              <a:off x="2133720" y="5524200"/>
              <a:ext cx="762480" cy="5338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1" idx="3"/>
              <a:endCxn id="213" idx="1"/>
            </p:cNvCxnSpPr>
            <p:nvPr/>
          </p:nvCxnSpPr>
          <p:spPr>
            <a:xfrm>
              <a:off x="43430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2" idx="3"/>
              <a:endCxn id="214" idx="1"/>
            </p:cNvCxnSpPr>
            <p:nvPr/>
          </p:nvCxnSpPr>
          <p:spPr>
            <a:xfrm>
              <a:off x="43430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7010280" y="4572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Brows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5715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ireles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Devic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3" idx="3"/>
              <a:endCxn id="219" idx="1"/>
            </p:cNvCxnSpPr>
            <p:nvPr/>
          </p:nvCxnSpPr>
          <p:spPr>
            <a:xfrm>
              <a:off x="64004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3"/>
              <a:endCxn id="220" idx="1"/>
            </p:cNvCxnSpPr>
            <p:nvPr/>
          </p:nvCxnSpPr>
          <p:spPr>
            <a:xfrm>
              <a:off x="64004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Future Possibilities on WAP Application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olour image support in WAP 2.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dvance in hardware equip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GPRS supports to switch between internet connection and voice call (Nokia 6310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3G network for animation/video stream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Integration with Blue Tooth to enhance wireless environment and appl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xperienc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ined hands-on experiences on designing and implementing an e-commerce system with parallel development of web and WAP ver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 and skills on adapting and expecting changes are valuable since the Internet world is changing every minu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e have implemented an Internet second hand market application on web and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ave looked into following aspect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rowser dete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age conversion of WBMP ima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parate data manipulation from layout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ducing animation in WAP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ject Motivation,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Highligh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acil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low, Archite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iple Output Format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ture Possibilities o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Motivat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dictions show th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 few years, wireless internet subscribers will outnumber wired internet subscrib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jor e-commerce development will then be on wireless mea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re will be a need to develop a wireless and a wired version of the site in parall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Objectiv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rough building a small-scale e-commerce site on both web and WAP (Wireless Application Protocol) versions, we aim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plore the world of e-commerce in it's beginning age of moving to the wireless worl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y to find a more effective and convenient way to achieve a goal under identified limitations on current WAP enviro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ystem Highlight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second hand market application was built with both web and WAP ver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y taking advantage of the concept of getting online anytime, anywhere with mobile access, buyer-seller interaction was being taken care o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1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r detection of same URL for conven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web (HTML) vs WAP (WML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direct to different version upon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2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Graphic animation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static .wbmp format suppo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timer and ca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14600" y="3657600"/>
            <a:ext cx="4267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3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Web Regist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Member log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Post product in we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 Produ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43434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ost" descr=""/>
          <p:cNvPicPr/>
          <p:nvPr/>
        </p:nvPicPr>
        <p:blipFill>
          <a:blip r:embed="rId7"/>
          <a:stretch/>
        </p:blipFill>
        <p:spPr>
          <a:xfrm>
            <a:off x="4876920" y="4343400"/>
            <a:ext cx="3733560" cy="2270160"/>
          </a:xfrm>
          <a:prstGeom prst="rect">
            <a:avLst/>
          </a:prstGeom>
          <a:ln w="0">
            <a:noFill/>
          </a:ln>
        </p:spPr>
      </p:pic>
      <p:pic>
        <p:nvPicPr>
          <p:cNvPr id="105" name="waplogin" descr=""/>
          <p:cNvPicPr/>
          <p:nvPr/>
        </p:nvPicPr>
        <p:blipFill>
          <a:blip r:embed="rId8"/>
          <a:stretch/>
        </p:blipFill>
        <p:spPr>
          <a:xfrm>
            <a:off x="7086600" y="1752480"/>
            <a:ext cx="14954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webreg" descr=""/>
          <p:cNvPicPr/>
          <p:nvPr/>
        </p:nvPicPr>
        <p:blipFill>
          <a:blip r:embed="rId9"/>
          <a:stretch/>
        </p:blipFill>
        <p:spPr>
          <a:xfrm>
            <a:off x="4884840" y="1752480"/>
            <a:ext cx="21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4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Support Web image format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.wbmp is not a common web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al time image conversion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438280" y="3733920"/>
            <a:ext cx="42674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09:04Z</dcterms:created>
  <dc:creator>wkyan</dc:creator>
  <dc:description/>
  <dc:language>en-US</dc:language>
  <cp:lastModifiedBy>hfwat</cp:lastModifiedBy>
  <dcterms:modified xsi:type="dcterms:W3CDTF">2001-04-23T05:54:58Z</dcterms:modified>
  <cp:revision>19</cp:revision>
  <dc:subject/>
  <dc:title>System Architecture</dc:title>
</cp:coreProperties>
</file>